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15.png" ContentType="image/png"/>
  <Override PartName="/ppt/media/image31.wmf" ContentType="image/x-wmf"/>
  <Override PartName="/ppt/media/image11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8.wmf" ContentType="image/x-wmf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E91-A0D5-4743-A371-9428D3FB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A7A-762D-4CF3-9805-8E5A9B36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99C8-34C2-4AD8-B032-A837CFC0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181-74CE-4D2F-A2F7-71B4886B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E218-990E-4289-A453-24E8CE8C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7554-2E63-4F97-82B3-3C047F45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9945-CE33-4DEE-9EDF-7FBE8A84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F394-9A71-42CB-98C6-85EFB52E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48A4-4B77-4131-B66E-6B353E5C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3961-A114-4EFA-8F3A-5D639102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01AE-522B-450B-B00C-AF175DD8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897-760C-4D19-B736-9AFC9169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C962-D414-42F9-B478-C4ABB14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BD3A-0A06-4D98-84F9-DEB3ABA7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B391-9B54-4E7D-ACFD-F71F5524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1C8C-920A-482F-9C6D-A2DEE42F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51C1-BD38-40C3-B218-DF331AD3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449D-0695-4C1A-B9B7-EE3909B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B97-26A9-41EB-9F8F-78902E43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259-DE15-4B11-BF47-0C881AB2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B24-BBD0-4232-B7DA-60E2DC07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B82-51A3-41BD-8100-CF4A6581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1B9-6499-4C3C-88F1-01AF15D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576F-2559-49E2-81E2-9D89360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BBC3-586F-4920-B3C7-76737536895A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logo" descr=""/>
          <p:cNvPicPr/>
          <p:nvPr/>
        </p:nvPicPr>
        <p:blipFill>
          <a:blip r:embed="rId3"/>
          <a:stretch/>
        </p:blipFill>
        <p:spPr>
          <a:xfrm>
            <a:off x="7201080" y="0"/>
            <a:ext cx="1942920" cy="59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F3AA-FA35-4DFF-B81E-E46F5D25C3EE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Web/Inter-HR/Inter-biz/domek/index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00000"/>
                </a:solidFill>
                <a:latin typeface="Arial Black"/>
              </a:rPr>
              <a:t>Sustav evidencije korisnik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2952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 Narrow"/>
              </a:rPr>
              <a:t>za domove za stare i nemoćne os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logo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3860640"/>
            <a:ext cx="2916360" cy="890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700360" y="6553080"/>
            <a:ext cx="64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 Narrow"/>
              </a:rPr>
              <a:t>lipanj/srpanj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-88920"/>
            <a:ext cx="2843280" cy="85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Evidencija korisni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idejno rješ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primanje zaht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brada zahtjeva/odluka o smješt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utomatski unos korisnika u evidenc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đenje evidencije (matična knjiga, osobni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promjena podat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napomene i zapaž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evidencija odsut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evidencija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evidencija dokum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statistička o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automatska izrada raznih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hr-HR" sz="2000" spc="-1" strike="noStrike">
                <a:solidFill>
                  <a:srgbClr val="006600"/>
                </a:solidFill>
                <a:latin typeface="Arial"/>
              </a:rPr>
              <a:t>razne pomoćne funkcije (rođendani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411280" y="4437000"/>
            <a:ext cx="6336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novni poda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os podataka o korisniku (jednokratno! – automatizirana evidenc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luka o smještaju – odmah ili naknadno nakon održane sjedni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23080" y="623736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Unos novih zahtjeva za smješt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4032360" cy="3900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716360" y="1916280"/>
            <a:ext cx="1943280" cy="1800000"/>
          </a:xfrm>
          <a:prstGeom prst="rect">
            <a:avLst/>
          </a:prstGeom>
          <a:solidFill>
            <a:srgbClr val="00ff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59640" y="220500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1916280"/>
            <a:ext cx="15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dluka o smješt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-79200"/>
            <a:ext cx="15843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Zaprimanje zaht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11280" y="1341360"/>
            <a:ext cx="6372360" cy="3619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62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etaljan preg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ni kriteriji (svi zahtjevi, samo obrađeni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raživanje, ograničavanje prikaza (godina podnošenja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5760" y="6237360"/>
            <a:ext cx="43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Pregled i evidencija zaht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5418000"/>
            <a:ext cx="66247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t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pis na pis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2897280" cy="2352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brada i 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pregled zaht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624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i zakonski zahtijevani pod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5760" y="62373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Unos korisnika u eviden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5229360"/>
            <a:ext cx="66247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uzetno detalj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obvezan unos, mogućnost promjene i naknadnog unosa u svakom trenutk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Unos podat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 koris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488040" cy="2322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892" t="18602" r="2841" b="9984"/>
          <a:stretch/>
        </p:blipFill>
        <p:spPr>
          <a:xfrm>
            <a:off x="5327640" y="1420920"/>
            <a:ext cx="3044880" cy="15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rcRect l="1023" t="19541" r="796" b="10581"/>
          <a:stretch/>
        </p:blipFill>
        <p:spPr>
          <a:xfrm>
            <a:off x="5896080" y="2641680"/>
            <a:ext cx="3105000" cy="14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rcRect l="1023" t="18602" r="1818" b="9984"/>
          <a:stretch/>
        </p:blipFill>
        <p:spPr>
          <a:xfrm>
            <a:off x="5783400" y="3941640"/>
            <a:ext cx="3073320" cy="15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5"/>
          <a:srcRect l="1023" t="18005" r="1818" b="10581"/>
          <a:stretch/>
        </p:blipFill>
        <p:spPr>
          <a:xfrm>
            <a:off x="1692360" y="2637000"/>
            <a:ext cx="3073320" cy="150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6"/>
          <a:srcRect l="1154" t="18739" r="1102" b="11289"/>
          <a:stretch/>
        </p:blipFill>
        <p:spPr>
          <a:xfrm>
            <a:off x="2844720" y="3681360"/>
            <a:ext cx="309564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5270400" cy="3165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6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gled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ni kriteriji prikaza, filtrir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raživanje, ispis na pis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6120" y="623736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Vođenje evidencije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03640" y="4797360"/>
            <a:ext cx="6624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mjena poda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nos napomena i zapaž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stanak smješt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Vođe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96000" y="3835440"/>
            <a:ext cx="3132000" cy="2330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730920" y="2565360"/>
            <a:ext cx="230508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268360" y="260280"/>
            <a:ext cx="66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gled prema matičnoj knji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gled osobnog 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svakom trenutku dostupni svi podaci o koris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02280" y="623736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Podaci o koris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a – pod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 koris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68720" y="1595520"/>
            <a:ext cx="49323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68360" y="439560"/>
            <a:ext cx="66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tična 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moćna matična 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gled, ograničavanje prik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spis na pisač (standardizirani obraza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02280" y="623736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atična knj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-79200"/>
            <a:ext cx="21240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ff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a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matična knj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5156280"/>
            <a:ext cx="66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svakom trenutku moguće je pregledati sve podatke o određenom koris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98920" y="1628640"/>
            <a:ext cx="5976720" cy="335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Obrada podata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im evidencije korisn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idencija odsu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idencija aktiv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tistička o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nevnik 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rada i ispis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pis zahtjeva, matična knjiga, pomoćna matična knjiga, mjesečno izvješće socijalne službe, izvještaj o smještajnim kapacitetima, mjesečna odsutnost korisnika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pis obrazaca za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obni list, obrazac za zdravstvenu zaštitu, izvješće o odsutnosti i aktivnostima, rješenje o odluci za smještaj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659640" y="1125360"/>
            <a:ext cx="234000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ednosta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laz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vrat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vid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g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vj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isut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dsut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seljeni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2040" y="6237360"/>
            <a:ext cx="41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dsutnost korisnika -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Odsu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Vođenje 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5192640"/>
            <a:ext cx="6624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rzo i jednostavno bilježenje odsutnosti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guće definiranje povratka unaprijed (npr. predviđeni boravak u bolnici, odlazak u goste obitelji ili slič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10076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35280" y="623736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jesečna odsutnost - an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Odsu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Mjeseč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4473720"/>
            <a:ext cx="6624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za analiza odsutnosti prema mjese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zultat je popis korisnika i njihovih odsutnos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spis na pis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29080" y="765000"/>
            <a:ext cx="590364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Dom za stare i nemoćn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novna djelatnost = smještaj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htjevi za smješt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ještajni kapacit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seljenje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videncija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eljenje korisnika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đenje 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htjevi, matična knjiga, osobni listov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nevnik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apirologi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lakšati posao socijanim radnici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utomatizacija postupka eviden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formatizacija =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sustav evidencije </a:t>
            </a: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dern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91280" y="623736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dsutnost korisnika - preg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4280"/>
            <a:ext cx="21240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Odsut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Podaci o odsutnosti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5514840"/>
            <a:ext cx="662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etaljan pregled svake odsu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kupni pregled – mjesečni i godišn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588024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627280" y="5229360"/>
            <a:ext cx="6337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nos podataka o aktivnostima prije i nakon useljenja, zapaž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etaljni unos aktivnosti – datum, vrijeme, opi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22400" y="6237360"/>
            <a:ext cx="40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Aktivnosti korisnika -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Vođenje </a:t>
            </a: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6292800" cy="43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659640" y="1701720"/>
            <a:ext cx="23400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utomatska izrada izvješć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za određeni mjesec u god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opis i brojčani poda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seljeni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seljen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dsutn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mrl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spis na pisa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odesiv kriterij odsutnosti (broj dana u mjesec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24360" y="623736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jesečno izvješće socijalne služ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Mjesečno izvješć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Socijalna služ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340000" y="620640"/>
            <a:ext cx="40496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555640" y="5013360"/>
            <a:ext cx="64436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ma obrascu propisanom pravilni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utomatski proračun i prebroja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gućnost ispisa u obliku formulara (propisano pravilnik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52520" y="6237360"/>
            <a:ext cx="48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Godišnji statistički list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Statistič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(godišn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886" t="3281" r="11385" b="19379"/>
          <a:stretch/>
        </p:blipFill>
        <p:spPr>
          <a:xfrm>
            <a:off x="2448000" y="728640"/>
            <a:ext cx="6191280" cy="40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55640" y="5263920"/>
            <a:ext cx="644364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novna statistika o starosti i useljenju u ustanov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sjek starosti, najmlađi i najstariji korisnic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sječno trajanje smještaja, najkraći i najdulji boravak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1320" y="623736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Automatska statistika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15920"/>
            <a:ext cx="21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Stat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koris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627280" y="730080"/>
            <a:ext cx="5040360" cy="43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zvještaj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utomatska izrada i ispis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andardizirani obras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tična 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moćna matična knj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obni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tistički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jesečno izvješće socijalne služ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brazac za zdravstvenu zašt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ješenje o odluci za smješt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jesečno izvješće o odsutnostima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ješće o odsutnosti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zvješće o smještajnim kapacitetima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 nastavku su prikazani neki od primjera ispisa obrazaca i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190320" y="623736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Izvještaj o podnesenim zahtje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Podneseni zahtj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3043" t="12076" r="3436" b="3916"/>
          <a:stretch/>
        </p:blipFill>
        <p:spPr>
          <a:xfrm>
            <a:off x="2303640" y="944640"/>
            <a:ext cx="6661080" cy="45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807640" y="623736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dluka o rješenju podnesenog zahtj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dluka o zahtje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2319" t="11749" r="3768" b="6005"/>
          <a:stretch/>
        </p:blipFill>
        <p:spPr>
          <a:xfrm>
            <a:off x="2627280" y="944640"/>
            <a:ext cx="6192720" cy="481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773600" y="623736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atična knj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15920"/>
            <a:ext cx="212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Matična knji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484360" y="85392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493440" y="623736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Mjesečna odsutnost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Mjesečna odsut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64000" y="944640"/>
            <a:ext cx="6008400" cy="45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Informatizacija ustanov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ternet stra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-m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da teksta (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njigovodstv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800" spc="-1" strike="noStrike">
                <a:solidFill>
                  <a:srgbClr val="0000ff"/>
                </a:solidFill>
                <a:latin typeface="Arial"/>
              </a:rPr>
              <a:t>U pravilu već prisutno u većini ustanova, povoljno i dostupno od strane raznih ponuđ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stav evidencija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anjak ponude na trži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isoka cijena dostupnih s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ff"/>
                </a:solidFill>
                <a:latin typeface="Arial"/>
              </a:rPr>
              <a:t>DO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-7776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probano u praksi (Odra, Osijek, Sisak, Pore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-7776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zvoj na zahtjev, aktualnosti, nadograd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138920" y="623736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sobni list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sobni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276720" y="765000"/>
            <a:ext cx="479736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49440" y="6237360"/>
            <a:ext cx="47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brazac za zdravstvenu zašt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Obrazac za zdravstvenu zašti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9117" t="7874" r="7493" b="3002"/>
          <a:stretch/>
        </p:blipFill>
        <p:spPr>
          <a:xfrm>
            <a:off x="2735280" y="963720"/>
            <a:ext cx="5904000" cy="47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15920"/>
            <a:ext cx="212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Izvješt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Smještajni kapacit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3248" t="7613" r="2395" b="5644"/>
          <a:stretch/>
        </p:blipFill>
        <p:spPr>
          <a:xfrm>
            <a:off x="2519280" y="295200"/>
            <a:ext cx="4176720" cy="28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"/>
          <a:srcRect l="4069" t="8094" r="2592" b="2100"/>
          <a:stretch/>
        </p:blipFill>
        <p:spPr>
          <a:xfrm>
            <a:off x="5111640" y="1449360"/>
            <a:ext cx="388944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rcRect l="1673" t="6781" r="3413" b="569"/>
          <a:stretch/>
        </p:blipFill>
        <p:spPr>
          <a:xfrm>
            <a:off x="2374920" y="3762360"/>
            <a:ext cx="3673440" cy="26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6191280" y="4761000"/>
            <a:ext cx="27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pis različitih izvješt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risnici prema sob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punjenost 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pis sob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odul</a:t>
            </a: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 DOMEKMedicin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idencije za medicinski odj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hvat osnovnih podataka o korisnicima ustan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dicinske evidencije o korisni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evidencija djelatnika medicinskog odj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84360" y="3068640"/>
            <a:ext cx="324000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dicinske eviden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namne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evij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ospitalizac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tpust iz bol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omjena kate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up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l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dijabetič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erap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pecijalistički pregle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ehr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ostelj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24360" y="3068640"/>
            <a:ext cx="32403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oblje odj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godišnji odm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radni s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imopreda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zaduže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35640" y="5157720"/>
            <a:ext cx="3384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digitalna evidenc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ff"/>
                </a:solidFill>
                <a:latin typeface="Arial"/>
              </a:rPr>
              <a:t>+ ispis standardnih obrazac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411280" y="623736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Pretraga korisnika, unos i pregled eviden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5920"/>
            <a:ext cx="212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Medicinska evid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Koris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84360" y="5157720"/>
            <a:ext cx="61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hvat osnovnih podataka o korisnic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656136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411280" y="623736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Evidencija previjanja koris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15920"/>
            <a:ext cx="212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 Narrow"/>
              </a:rPr>
              <a:t>Medicinska eviden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 Narrow"/>
              </a:rPr>
              <a:t>Primjer - previ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536544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DOMEKMedicin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taljne evide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gućnost ispisa – “prijelazno” razdoblje – digitalna arhiva + papirnata arh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rzi dohvat i pretraga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Budućnos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je provjeren u velikim domo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je potpuno otvo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gućnost nadograd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prestano unaprijeđivanje i dodavanje novih funkcija prema zahtjevima koris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luka djelatnika d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ovjereno rješenje ili razvoj novo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roškovi, pr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ff"/>
                </a:solidFill>
                <a:latin typeface="Arial"/>
              </a:rPr>
              <a:t>nedostaci –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aka primjedba se razmatra i po potrebi obavljaju modifikacije sustav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Troškov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iksni troškovi bez skrivenih trajnih trošk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jesečna naknada za profesionalnu uslugu održ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ratis nadogradnje u sklopu održa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predlažemo prema potrebama i zahtjevima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oj radnih mjesta, instalirani modul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icenciranje po broju radnih mj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c0039"/>
                </a:solidFill>
                <a:latin typeface="Arial"/>
              </a:rPr>
              <a:t>Korisnic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uća sv. Franje, Odra – Novi Zagr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 za starije i nemoćne Osij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 za starije i nemoćne Sis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 za starije i nemoćne Pore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ff"/>
                </a:solidFill>
                <a:latin typeface="Arial"/>
              </a:rPr>
              <a:t>PRIDRUŽITE 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DOMEK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Mska Evidencija Korisnika = </a:t>
            </a: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DOM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vost na trži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vjereno u pra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noštvo fu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gućnost nadogradnje na zaht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ednostavnost korište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za djelatnike koji nemaju iskustvo rada na računal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kumentaci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upute za korišt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drš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telefonska, izlazak na lokaciju na zahtj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Za koga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marno –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ocijalna služ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đenje kompletne evidencije o svakom korisniku, od useljenja, preko aktivnosti i odsutnosti do iselje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ođenje evidencije o smještajnim kapacite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Socij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tale služ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stupnost osnovnih podataka iz evidencije socijalne služ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reativna radionica – </a:t>
            </a: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Radionic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evidencija aktivnosti korisnik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jedinica za pojačanu njegu – </a:t>
            </a: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Medicin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vođenje specifičnih eviden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CIL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formatizacija, manje papir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brzanje poslovanja, ostale prednosti račun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traživanje i arhiviranje poda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Idejno rješenje sustav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422064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rištenje u raznim službama ustanove – konfiguracija ovisno o organizaciji ustan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ff"/>
                </a:solidFill>
                <a:latin typeface="Arial"/>
              </a:rPr>
              <a:t>DOMEKSocijal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Windows aplikacija za vođenje evidencije – inicijalno za socijalnu službul, središnji dio s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59280" y="1685880"/>
            <a:ext cx="5398920" cy="217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Modul</a:t>
            </a:r>
            <a:r>
              <a:rPr b="1" lang="hr-HR" sz="3600" spc="-1" strike="noStrike">
                <a:solidFill>
                  <a:srgbClr val="0000ff"/>
                </a:solidFill>
                <a:latin typeface="Arial"/>
              </a:rPr>
              <a:t> DOMEKSocijal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mijenjeno socijalnoj služ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guće korištenje na više računala (npr. veći domovi sa više socijalnih radn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datno – socijalni radnici zaduženi za kreativne aktivnosti koriste modul </a:t>
            </a:r>
            <a:r>
              <a:rPr b="1" lang="hr-HR" sz="1800" spc="-1" strike="noStrike">
                <a:solidFill>
                  <a:srgbClr val="0000ff"/>
                </a:solidFill>
                <a:latin typeface="Arial"/>
              </a:rPr>
              <a:t>DOMEKRadio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htj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ještajnih kapaci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tična knjiga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dsutnost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tivnost koris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raživanje, pregled, ispis eviden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utomatska izrada izvješt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atistički lis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58920" y="4437000"/>
            <a:ext cx="4032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nostavno suče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lagodljivost koris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forma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5640" y="6211800"/>
            <a:ext cx="56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Osnovni prozor aplikacije DOMEKS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583236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659280" y="3644640"/>
            <a:ext cx="2305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rste smješta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nos podataka o so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gled soba i korisnika po sob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720" y="587700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00"/>
                </a:solidFill>
                <a:latin typeface="Arial"/>
              </a:rPr>
              <a:t>Smještajni kapac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51280" y="189000"/>
            <a:ext cx="3116160" cy="3311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71640" y="1844640"/>
            <a:ext cx="3816360" cy="3476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rcRect l="0" t="0" r="30528" b="0"/>
          <a:stretch/>
        </p:blipFill>
        <p:spPr>
          <a:xfrm>
            <a:off x="250920" y="189000"/>
            <a:ext cx="2795400" cy="3504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3419280" cy="2700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826920" y="2492280"/>
            <a:ext cx="29815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5:47:09Z</dcterms:created>
  <dc:creator>Matija Mikac</dc:creator>
  <dc:description/>
  <dc:language>en-US</dc:language>
  <cp:lastModifiedBy>Matija</cp:lastModifiedBy>
  <dcterms:modified xsi:type="dcterms:W3CDTF">2008-06-26T12:37:16Z</dcterms:modified>
  <cp:revision>27</cp:revision>
  <dc:subject/>
  <dc:title>Slide 1</dc:title>
</cp:coreProperties>
</file>